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958D-F699-4CA3-A879-A1DECFD820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E264-4173-42C2-A88D-F1CC7943D18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F97-A69A-47B3-8FE8-F7B632A1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3E9-CBAD-4EAD-8D1A-E7C55DED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0D26-0927-4840-8F18-54549897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1CC-C592-48B5-9712-7046DB7A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D6D-E15A-490F-8960-37DE9DEB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781-04EC-48B8-8B6C-D26FFA58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02F3-0862-423F-B86F-EE3AEA2A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DCD-6CB0-44C2-A496-309F099E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1140-D68A-4573-9D2E-00911049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BE88-D5A5-4308-ACBA-C1149A83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ABD-5932-4559-BD4A-01963BEC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F8B-B4D0-4020-B4A0-2F27A725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119D-9D75-4A07-8B54-C9CAB29B3F0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75A2-E99A-406D-8F43-5DF0F4E835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инистерство цифрового развития, связи и массовых коммуникаций Российской Федерац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ое государственное бюджетное образовательное учреждение высшего образован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ибирский государственный университет телекоммуникаций и информати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0" y="19288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АКАЛАВР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0" y="2643120"/>
            <a:ext cx="9144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именование темы бакалаврской рабо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140360" y="4149720"/>
            <a:ext cx="5003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(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удент(ка) групп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льин Илья Иль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уководител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.т.н., доцент кафедры ММБП СибГУТИ Андреев Андрей Андр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0" y="642924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овосибирск – 20Х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1267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туальность 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мет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ект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ь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чи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928800" cy="107964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09D3-50F1-4A1A-A052-CDD469B3A13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95280" y="14126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тельный демонстрационный материа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блицы, графики, модели, основные тезисы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928800" cy="1079640"/>
          </a:xfrm>
          <a:prstGeom prst="rect">
            <a:avLst/>
          </a:prstGeom>
          <a:ln w="0">
            <a:noFill/>
          </a:ln>
        </p:spPr>
      </p:pic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94EA-9116-4F3A-ACF1-E2CFBB69A1B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6154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95280" y="14130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результаты, вы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928800" cy="1079640"/>
          </a:xfrm>
          <a:prstGeom prst="rect">
            <a:avLst/>
          </a:prstGeom>
          <a:ln w="0">
            <a:noFill/>
          </a:ln>
        </p:spPr>
      </p:pic>
      <p:sp>
        <p:nvSpPr>
          <p:cNvPr id="6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C32A-6CC3-4008-AA22-58B5CBA0C06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928800" cy="1079640"/>
          </a:xfrm>
          <a:prstGeom prst="rect">
            <a:avLst/>
          </a:prstGeom>
          <a:ln w="0">
            <a:noFill/>
          </a:ln>
        </p:spPr>
      </p:pic>
      <p:sp>
        <p:nvSpPr>
          <p:cNvPr id="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50F8-64AE-4C7B-BF88-CCEB48EE0BD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08:04:11Z</dcterms:created>
  <dc:creator>FooBar</dc:creator>
  <dc:description/>
  <dc:language>en-US</dc:language>
  <cp:lastModifiedBy>Меленцова Надежда Анатольевна</cp:lastModifiedBy>
  <dcterms:modified xsi:type="dcterms:W3CDTF">2021-04-07T08:16:49Z</dcterms:modified>
  <cp:revision>31</cp:revision>
  <dc:subject/>
  <dc:title>Слайд 1</dc:title>
</cp:coreProperties>
</file>